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11.jpeg" ContentType="image/jpeg"/>
  <Override PartName="/ppt/media/image7.jpeg" ContentType="image/jpeg"/>
  <Override PartName="/ppt/media/image10.wmf" ContentType="image/x-wmf"/>
  <Override PartName="/ppt/media/image8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95FFB-D507-4ADF-9746-7663B4076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0354F-102B-4984-8D94-A1DEE1A37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71152-D14D-49C3-B68D-C5B80FFB2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2D084-D8E4-44A9-88FB-9C422CFD5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95CC9-E976-43F4-B086-7A9D9CC7B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26744-9606-40F2-838C-7D036FCF0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BF5C9-CF32-4B83-A7A9-1514BFD08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B2435-0ABC-46BE-B4CA-2A9B24A7C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A2097-A20D-4C82-8398-E71DF8F4C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F487E-AABE-4F30-8575-F120663AF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46EDA-A6A5-474B-9935-38594A94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E133F-A070-42E9-B40B-F899E3C71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26E63-8A80-4C37-8BB7-6F5D0985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72734-5461-49AF-8AA6-E77DA594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1CCDA-3068-4DC0-B03E-320C380A6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7051F-CED9-4DA3-B306-3D86A5432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35605-8590-4798-8779-CD16AF2DC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4A667-21F5-48F5-8AE7-2205D626B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BE108-84E4-42CF-AA8B-17ECDD218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2D626-D4DB-4E23-9956-617159EF9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80D5F-1161-4647-9478-209A7A0B8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C9FE4-B070-4A47-93E8-1999A004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B4247-FED9-4F59-9156-F36869C4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57C5D-6757-4F6E-B2BD-4BA24800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44289-9231-4678-84CA-3A33F98764E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24249-DF3F-4C6C-895D-A1F019B1597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&#1040;.&#1055;.&#1063;&#1077;&#1093;&#1086;&#1074;.xml"/><Relationship Id="rId4" Type="http://schemas.openxmlformats.org/officeDocument/2006/relationships/slide" Target="slide11.xml"/><Relationship Id="rId5" Type="http://schemas.openxmlformats.org/officeDocument/2006/relationships/slide" Target="slide13.xml"/><Relationship Id="rId6" Type="http://schemas.openxmlformats.org/officeDocument/2006/relationships/slide" Target="slide14.xm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7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1676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ff"/>
                </a:solidFill>
                <a:latin typeface="Monotype Corsiva"/>
              </a:rPr>
              <a:t>Тема: «А.П.Чехов. Слово о писателе».</a:t>
            </a:r>
            <a:endParaRPr b="0" lang="en-US" sz="57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3809880"/>
            <a:ext cx="7315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ыполнила студентка 341 группы Чупрова Анастас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5"/>
          <p:cNvSpPr/>
          <p:nvPr/>
        </p:nvSpPr>
        <p:spPr>
          <a:xfrm>
            <a:off x="3124080" y="1752480"/>
            <a:ext cx="4032360" cy="28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 аттестате зрелости отмечалась старательность ученика и его дисциплинированность, что же касается склонностей, то тут значилась достаточно туманная формула: «любознательность по всем предметам одинаковая»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ценки в аттестате были пестрые- три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    три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   четыре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6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2303280" cy="307332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sp>
        <p:nvSpPr>
          <p:cNvPr id="160" name="Text Box 7"/>
          <p:cNvSpPr/>
          <p:nvPr/>
        </p:nvSpPr>
        <p:spPr>
          <a:xfrm>
            <a:off x="914400" y="228600"/>
            <a:ext cx="5977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А. П. Чехов  после  получе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аттестата зрел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8" descr="MCSY00481_0000[1]"/>
          <p:cNvPicPr/>
          <p:nvPr/>
        </p:nvPicPr>
        <p:blipFill>
          <a:blip r:embed="rId2"/>
          <a:stretch/>
        </p:blipFill>
        <p:spPr>
          <a:xfrm>
            <a:off x="6877080" y="5157720"/>
            <a:ext cx="880920" cy="10461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" descr="MCSY00481_0000[1]"/>
          <p:cNvPicPr/>
          <p:nvPr/>
        </p:nvPicPr>
        <p:blipFill>
          <a:blip r:embed="rId3"/>
          <a:stretch/>
        </p:blipFill>
        <p:spPr>
          <a:xfrm>
            <a:off x="7010280" y="1523880"/>
            <a:ext cx="881280" cy="10461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3" descr="MCSY00481_0000[1]"/>
          <p:cNvPicPr/>
          <p:nvPr/>
        </p:nvPicPr>
        <p:blipFill>
          <a:blip r:embed="rId4"/>
          <a:stretch/>
        </p:blipFill>
        <p:spPr>
          <a:xfrm>
            <a:off x="179280" y="4724280"/>
            <a:ext cx="881280" cy="10461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7" descr="MCSY00480_0000[1]"/>
          <p:cNvPicPr/>
          <p:nvPr/>
        </p:nvPicPr>
        <p:blipFill>
          <a:blip r:embed="rId5"/>
          <a:stretch/>
        </p:blipFill>
        <p:spPr>
          <a:xfrm>
            <a:off x="6700680" y="4241880"/>
            <a:ext cx="981360" cy="10540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0" descr="MCSY00480_0000[1]"/>
          <p:cNvPicPr/>
          <p:nvPr/>
        </p:nvPicPr>
        <p:blipFill>
          <a:blip r:embed="rId6"/>
          <a:stretch/>
        </p:blipFill>
        <p:spPr>
          <a:xfrm>
            <a:off x="3995640" y="4581360"/>
            <a:ext cx="881280" cy="10461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2" descr="MCSY00480_0000[1]"/>
          <p:cNvPicPr/>
          <p:nvPr/>
        </p:nvPicPr>
        <p:blipFill>
          <a:blip r:embed="rId7"/>
          <a:stretch/>
        </p:blipFill>
        <p:spPr>
          <a:xfrm>
            <a:off x="1908000" y="4292640"/>
            <a:ext cx="881280" cy="10461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3" descr="MCSY00479_0000[1]"/>
          <p:cNvPicPr/>
          <p:nvPr/>
        </p:nvPicPr>
        <p:blipFill>
          <a:blip r:embed="rId8"/>
          <a:stretch/>
        </p:blipFill>
        <p:spPr>
          <a:xfrm>
            <a:off x="3059280" y="5229360"/>
            <a:ext cx="880920" cy="10461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5" descr="MCSY00479_0000[1]"/>
          <p:cNvPicPr/>
          <p:nvPr/>
        </p:nvPicPr>
        <p:blipFill>
          <a:blip r:embed="rId9"/>
          <a:stretch/>
        </p:blipFill>
        <p:spPr>
          <a:xfrm>
            <a:off x="5003640" y="5373720"/>
            <a:ext cx="881280" cy="10461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6" descr="MCSY00479_0000[1]"/>
          <p:cNvPicPr/>
          <p:nvPr/>
        </p:nvPicPr>
        <p:blipFill>
          <a:blip r:embed="rId10"/>
          <a:stretch/>
        </p:blipFill>
        <p:spPr>
          <a:xfrm>
            <a:off x="6804000" y="2924280"/>
            <a:ext cx="880920" cy="10461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7" descr="MCSY00479_0000[1]"/>
          <p:cNvPicPr/>
          <p:nvPr/>
        </p:nvPicPr>
        <p:blipFill>
          <a:blip r:embed="rId11"/>
          <a:stretch/>
        </p:blipFill>
        <p:spPr>
          <a:xfrm>
            <a:off x="1116000" y="5516640"/>
            <a:ext cx="880920" cy="10461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8153280" y="624852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7396" y="10800"/>
                </a:moveTo>
                <a:lnTo>
                  <a:pt x="21409" y="3794"/>
                </a:lnTo>
                <a:lnTo>
                  <a:pt x="21409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5"/>
          <p:cNvSpPr/>
          <p:nvPr/>
        </p:nvSpPr>
        <p:spPr>
          <a:xfrm>
            <a:off x="990720" y="304920"/>
            <a:ext cx="748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Увлечения А.П.Чехова во время учебы в Таганрогской гимназ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762120" y="1447920"/>
            <a:ext cx="3240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иобщился к таганрогской театральной жизн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873 г. спектакль«Прекрасная Елен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14"/>
          <p:cNvSpPr/>
          <p:nvPr/>
        </p:nvSpPr>
        <p:spPr>
          <a:xfrm>
            <a:off x="1143000" y="3962520"/>
            <a:ext cx="446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ыл неистощим на выдумки, любил   им-провизировать, обладал даром перевоп-лощения. В домашних спектаклях братья разыгрывали даже гоголевского «Ревизор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16"/>
          <p:cNvSpPr/>
          <p:nvPr/>
        </p:nvSpPr>
        <p:spPr>
          <a:xfrm>
            <a:off x="2484360" y="5013360"/>
            <a:ext cx="403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17"/>
          <p:cNvSpPr/>
          <p:nvPr/>
        </p:nvSpPr>
        <p:spPr>
          <a:xfrm>
            <a:off x="4419720" y="2438280"/>
            <a:ext cx="431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августе 1875 г. Выпускает рукописный журнал «Заика», пробует свои силы в драматург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>
            <a:hlinkClick r:id="" action="ppaction://hlinkshowjump?jump=nextslide"/>
          </p:cNvPr>
          <p:cNvSpPr/>
          <p:nvPr/>
        </p:nvSpPr>
        <p:spPr>
          <a:xfrm>
            <a:off x="7620120" y="586728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3794" y="3801"/>
                </a:moveTo>
                <a:lnTo>
                  <a:pt x="17806" y="10807"/>
                </a:lnTo>
                <a:lnTo>
                  <a:pt x="3794" y="17814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9400" y="58672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468360" y="2060640"/>
            <a:ext cx="3743280" cy="29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2002"/>
                </a:solidFill>
                <a:latin typeface="Arial"/>
              </a:rPr>
              <a:t>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олодого Чехова влекли литературные интересы. Вместе с братом Николаем Антон Павлович начал сотрудничать в юмористических журналах «Стрекоза и «Будильник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ексты Антона иллюстрировал Никола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11640" y="580536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.П. Чехов с братом Николае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397400" y="907920"/>
            <a:ext cx="4152960" cy="4681800"/>
          </a:xfrm>
          <a:prstGeom prst="rect">
            <a:avLst/>
          </a:prstGeom>
          <a:ln w="19080">
            <a:solidFill>
              <a:srgbClr val="321100"/>
            </a:solidFill>
            <a:miter/>
          </a:ln>
        </p:spPr>
      </p:pic>
      <p:sp>
        <p:nvSpPr>
          <p:cNvPr id="182" name=""/>
          <p:cNvSpPr/>
          <p:nvPr/>
        </p:nvSpPr>
        <p:spPr>
          <a:xfrm>
            <a:off x="7696080" y="6324480"/>
            <a:ext cx="533520" cy="38124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220" h="21600">
                <a:moveTo>
                  <a:pt x="0" y="0"/>
                </a:moveTo>
                <a:lnTo>
                  <a:pt x="30220" y="0"/>
                </a:lnTo>
                <a:lnTo>
                  <a:pt x="30220" y="21600"/>
                </a:lnTo>
                <a:lnTo>
                  <a:pt x="0" y="21600"/>
                </a:lnTo>
                <a:close/>
              </a:path>
              <a:path fill="lightenLess" w="30220" h="21600">
                <a:moveTo>
                  <a:pt x="0" y="0"/>
                </a:moveTo>
                <a:lnTo>
                  <a:pt x="30220" y="0"/>
                </a:lnTo>
                <a:lnTo>
                  <a:pt x="28820" y="1400"/>
                </a:lnTo>
                <a:lnTo>
                  <a:pt x="1400" y="1400"/>
                </a:lnTo>
                <a:close/>
              </a:path>
              <a:path fill="darken" w="30220" h="21600">
                <a:moveTo>
                  <a:pt x="30220" y="0"/>
                </a:moveTo>
                <a:lnTo>
                  <a:pt x="30220" y="21600"/>
                </a:lnTo>
                <a:lnTo>
                  <a:pt x="28820" y="20200"/>
                </a:lnTo>
                <a:lnTo>
                  <a:pt x="28820" y="1400"/>
                </a:lnTo>
                <a:close/>
              </a:path>
              <a:path fill="darkenLess" w="30220" h="21600">
                <a:moveTo>
                  <a:pt x="30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0" y="20200"/>
                </a:lnTo>
                <a:close/>
              </a:path>
              <a:path fill="lighten" w="30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0" h="21600">
                <a:moveTo>
                  <a:pt x="8103" y="10800"/>
                </a:moveTo>
                <a:lnTo>
                  <a:pt x="22116" y="3794"/>
                </a:lnTo>
                <a:lnTo>
                  <a:pt x="22116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4"/>
          <p:cNvSpPr/>
          <p:nvPr/>
        </p:nvSpPr>
        <p:spPr>
          <a:xfrm>
            <a:off x="228600" y="26028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Первые произведения (1880-1884гг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4356000" y="1557360"/>
            <a:ext cx="2880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533520" y="990720"/>
            <a:ext cx="449568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извед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«Смерть чиновник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«Толстый и тонкий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«Хамелеон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«Хирургия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«Лошадиная фамилия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«Тоск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«Унтер Пришибеев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«Ваньк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«Мальчики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>
            <a:hlinkClick r:id="rId1" action="ppaction://hlinksldjump"/>
          </p:cNvPr>
          <p:cNvSpPr/>
          <p:nvPr/>
        </p:nvSpPr>
        <p:spPr>
          <a:xfrm>
            <a:off x="7543800" y="60958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7"/>
          <p:cNvSpPr/>
          <p:nvPr/>
        </p:nvSpPr>
        <p:spPr>
          <a:xfrm>
            <a:off x="685800" y="838080"/>
            <a:ext cx="748836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Псевдонимы А.П.Чехов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Rage Italic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нтоша Чехонте, Антоша, Ан.Ч., Антоша Ч., Чехонте, Дон Антонио Чехонте, Человек без селезенки, Г. Балдастов, Прозаический поэт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сего в «Словаре псевдонимов» И.Ф. Масанова зафиксировано 45 псевдонимов писателя, а сколько еще, возможно, существует нераскрытых псевдонимов Чехо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>
            <a:hlinkClick r:id="rId1" action="ppaction://hlinksldjump"/>
          </p:cNvPr>
          <p:cNvSpPr/>
          <p:nvPr/>
        </p:nvSpPr>
        <p:spPr>
          <a:xfrm>
            <a:off x="7924680" y="601992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093760" y="0"/>
            <a:ext cx="4619880" cy="6858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Monotype Corsiva"/>
              </a:rPr>
              <a:t>Содержание: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f25a"/>
                </a:solidFill>
                <a:uFillTx/>
                <a:latin typeface="Arial"/>
                <a:hlinkClick r:id="rId1" action="ppaction://hlinksldjump"/>
              </a:rPr>
              <a:t>Детство А.П.Чехо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f25a"/>
                </a:solidFill>
                <a:uFillTx/>
                <a:latin typeface="Arial"/>
                <a:hlinkClick r:id="rId2" action="ppaction://hlinksldjump"/>
              </a:rPr>
              <a:t>Семья Антона Павловича: родители, братья и сестр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f25a"/>
                </a:solidFill>
                <a:uFillTx/>
                <a:latin typeface="Arial"/>
                <a:hlinkClick r:id="rId3" action="ppaction://hlinksldjump"/>
              </a:rPr>
              <a:t>Учеба в таганрогской гимназ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f25a"/>
                </a:solidFill>
                <a:uFillTx/>
                <a:latin typeface="Arial"/>
                <a:hlinkClick r:id="rId4" action="ppaction://hlinksldjump"/>
              </a:rPr>
              <a:t>Увлеч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f25a"/>
                </a:solidFill>
                <a:uFillTx/>
                <a:latin typeface="Arial"/>
                <a:hlinkClick r:id="rId5" action="ppaction://hlinksldjump"/>
              </a:rPr>
              <a:t>Первые произведения А.П.Чехо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f25a"/>
                </a:solidFill>
                <a:uFillTx/>
                <a:latin typeface="Arial"/>
                <a:hlinkClick r:id="rId6" action="ppaction://hlinksldjump"/>
              </a:rPr>
              <a:t>Псевдоним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5" descr=""/>
          <p:cNvPicPr/>
          <p:nvPr/>
        </p:nvPicPr>
        <p:blipFill>
          <a:blip r:embed="rId1"/>
          <a:stretch/>
        </p:blipFill>
        <p:spPr>
          <a:xfrm>
            <a:off x="1752480" y="1295280"/>
            <a:ext cx="5170680" cy="322272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sp>
        <p:nvSpPr>
          <p:cNvPr id="132" name="Text Box 6"/>
          <p:cNvSpPr/>
          <p:nvPr/>
        </p:nvSpPr>
        <p:spPr>
          <a:xfrm>
            <a:off x="2133720" y="4800600"/>
            <a:ext cx="460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7 (29) ЯНВАРЯ 1860 г в городе Таганроге в купеческой семье родился Антон Павлович Чех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14600" y="152280"/>
            <a:ext cx="4038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Monotype Corsiva"/>
              </a:rPr>
              <a:t>Детство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>
            <a:hlinkClick r:id="" action="ppaction://hlinkshowjump?jump=previousslide"/>
          </p:cNvPr>
          <p:cNvSpPr/>
          <p:nvPr/>
        </p:nvSpPr>
        <p:spPr>
          <a:xfrm>
            <a:off x="7238880" y="57150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10800"/>
                </a:moveTo>
                <a:lnTo>
                  <a:pt x="25004" y="3794"/>
                </a:lnTo>
                <a:lnTo>
                  <a:pt x="25004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2085840" cy="265752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pic>
        <p:nvPicPr>
          <p:cNvPr id="136" name="Picture 6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181480" y="1676520"/>
            <a:ext cx="2124360" cy="263844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sp>
        <p:nvSpPr>
          <p:cNvPr id="137" name="Rectangle 7"/>
          <p:cNvSpPr/>
          <p:nvPr/>
        </p:nvSpPr>
        <p:spPr>
          <a:xfrm>
            <a:off x="914400" y="4784400"/>
            <a:ext cx="28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ЕВГЕНИЯ ЯКОВЛЕВНА ЧЕХО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4495680" y="4281480"/>
            <a:ext cx="367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ench Script MT"/>
              </a:rPr>
              <a:t>                                                        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АВЕЛ ЕГОР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ЧЕХ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French Script MT"/>
              </a:rPr>
              <a:t>                  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228600"/>
            <a:ext cx="4496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Monotype Corsiva"/>
              </a:rPr>
              <a:t>Родители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>
            <a:hlinkClick r:id="" action="ppaction://hlinkshowjump?jump=nextslide"/>
          </p:cNvPr>
          <p:cNvSpPr/>
          <p:nvPr/>
        </p:nvSpPr>
        <p:spPr>
          <a:xfrm>
            <a:off x="7162920" y="59436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19920" y="59436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5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362480" cy="344808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sp>
        <p:nvSpPr>
          <p:cNvPr id="143" name="Rectangle 6"/>
          <p:cNvSpPr/>
          <p:nvPr/>
        </p:nvSpPr>
        <p:spPr>
          <a:xfrm>
            <a:off x="-1044720" y="5032440"/>
            <a:ext cx="8929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Сидят слева направо: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Миша, Маша, Павел Егорович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ЕвгенияЯковлевна, Людмила Павл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(жена М.Е. Чехова), Георг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(сын Л.П. и М.Е. Чеховых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Стоят слева направо: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Иван, Антон, Николай, Александр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Митрофан Егорович Чехо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971800" y="228600"/>
            <a:ext cx="3809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Monotype Corsiva"/>
              </a:rPr>
              <a:t>Семья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>
            <a:hlinkClick r:id="" action="ppaction://hlinkshowjump?jump=nextslide"/>
          </p:cNvPr>
          <p:cNvSpPr/>
          <p:nvPr/>
        </p:nvSpPr>
        <p:spPr>
          <a:xfrm>
            <a:off x="8305920" y="60958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>
            <a:hlinkClick r:id="" action="ppaction://hlinkshowjump?jump=previousslide"/>
          </p:cNvPr>
          <p:cNvSpPr/>
          <p:nvPr/>
        </p:nvSpPr>
        <p:spPr>
          <a:xfrm>
            <a:off x="7162920" y="60958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6"/>
          <p:cNvSpPr/>
          <p:nvPr/>
        </p:nvSpPr>
        <p:spPr>
          <a:xfrm>
            <a:off x="914400" y="765000"/>
            <a:ext cx="7042320" cy="35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тец Павла Егоровича Чехова был крепостны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ам  Павел Егорович Чехов сначала служил приказчиком, потом открыл бакалейную лавк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авел Егорович – человек суровый и жесткий. В доме царили строгие нравы, запрещалось бегать, шуметь, водиться с товарищами, за малейшую оплошность отец мог высечь провинившегос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838080" y="3200400"/>
            <a:ext cx="7272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скусству глава семьи отдавал большую часть  своего времени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нал цену образованию, поэтому стремился учить дет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>
            <a:hlinkClick r:id="rId1" action="ppaction://hlinksldjump"/>
          </p:cNvPr>
          <p:cNvSpPr/>
          <p:nvPr/>
        </p:nvSpPr>
        <p:spPr>
          <a:xfrm>
            <a:off x="7467480" y="60199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10800"/>
                </a:moveTo>
                <a:lnTo>
                  <a:pt x="22441" y="3794"/>
                </a:lnTo>
                <a:lnTo>
                  <a:pt x="22441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3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Monotype Corsiva"/>
              </a:rPr>
              <a:t>Гимназия, в которой учился А.П.Чехов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03280" y="1267920"/>
            <a:ext cx="414036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9900"/>
                </a:solidFill>
                <a:latin typeface="Monotype Corsiva"/>
              </a:rPr>
              <a:t>      </a:t>
            </a:r>
            <a:r>
              <a:rPr b="0" i="1" lang="en-US" sz="2400" spc="-1" strike="noStrike" u="sng">
                <a:solidFill>
                  <a:srgbClr val="ff9900"/>
                </a:solidFill>
                <a:uFillTx/>
                <a:latin typeface="Monotype Corsiva"/>
              </a:rPr>
              <a:t>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Гимназическая программ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Всеобщая и русская истор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История Древней Греции и Рим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География Росси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Теория словесност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История русской словесност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Древние язык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немецкий, язык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Французский язык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Закон Божи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4656240" cy="505620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153" name="">
            <a:hlinkClick r:id="" action="ppaction://hlinkshowjump?jump=nextslide"/>
          </p:cNvPr>
          <p:cNvSpPr/>
          <p:nvPr/>
        </p:nvSpPr>
        <p:spPr>
          <a:xfrm>
            <a:off x="8077320" y="640080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8107" y="3794"/>
                </a:moveTo>
                <a:lnTo>
                  <a:pt x="22120" y="10800"/>
                </a:lnTo>
                <a:lnTo>
                  <a:pt x="8107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391520" y="640080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8107" y="10800"/>
                </a:moveTo>
                <a:lnTo>
                  <a:pt x="22120" y="3794"/>
                </a:lnTo>
                <a:lnTo>
                  <a:pt x="22120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7"/>
          <p:cNvSpPr/>
          <p:nvPr/>
        </p:nvSpPr>
        <p:spPr>
          <a:xfrm>
            <a:off x="250920" y="333360"/>
            <a:ext cx="7057800" cy="71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Учеба в Таганрогской гимназии 1868 – 1879г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водная ведомость успеваем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868 г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- 1 класс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спеш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869 г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- 2 класс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спеш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870 г. - 3 класс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еудовлетворительн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география и арифмет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871 г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- 3 класс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спеш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872 г. - 4 класс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спеш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873 г. - 5 класс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еудовлетворительн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греческий язы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874 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- 5 класс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спеш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875 г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- 6 класс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спеш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876 г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- 7 класс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спеш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877 г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- 8 класс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спеш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878 г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- 9 класс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спеш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879 г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- 10 класс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спеш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>
            <a:hlinkClick r:id="" action="ppaction://hlinkshowjump?jump=nextslide"/>
          </p:cNvPr>
          <p:cNvSpPr/>
          <p:nvPr/>
        </p:nvSpPr>
        <p:spPr>
          <a:xfrm>
            <a:off x="7848720" y="62485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>
            <a:hlinkClick r:id="" action="ppaction://hlinkshowjump?jump=previousslide"/>
          </p:cNvPr>
          <p:cNvSpPr/>
          <p:nvPr/>
        </p:nvSpPr>
        <p:spPr>
          <a:xfrm>
            <a:off x="6934320" y="62485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тудент</cp:lastModifiedBy>
  <dcterms:modified xsi:type="dcterms:W3CDTF">2010-05-13T04:57:14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